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cashreg.wav" ContentType="audio/x-wav"/>
  <Override PartName="/ppt/media/image8.wmf" ContentType="image/x-wmf"/>
  <Override PartName="/ppt/media/image9.wmf" ContentType="image/x-wmf"/>
  <Override PartName="/ppt/media/image7.wmf" ContentType="image/x-wmf"/>
  <Override PartName="/ppt/media/CHIMES.WAV" ContentType="audio/x-wav"/>
  <Override PartName="/ppt/media/image18.wmf" ContentType="image/x-wmf"/>
  <Override PartName="/ppt/media/image20.wmf" ContentType="image/x-wmf"/>
  <Override PartName="/ppt/media/ghostlaugh.wav" ContentType="audio/x-wav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EXPLODE.WAV" ContentType="audio/x-wav"/>
  <Override PartName="/ppt/media/image3.wmf" ContentType="image/x-wmf"/>
  <Override PartName="/ppt/media/image2.wmf" ContentType="image/x-wmf"/>
  <Override PartName="/ppt/media/image1.wmf" ContentType="image/x-wmf"/>
  <Override PartName="/ppt/media/Baseball%20critical%20stop.wav" ContentType="audio/x-wav"/>
  <Override PartName="/ppt/media/image15.wmf" ContentType="image/x-wmf"/>
  <Override PartName="/ppt/media/image19.wmf" ContentType="image/x-wmf"/>
  <Override PartName="/ppt/media/APPLAUSE.WAV" ContentType="audio/x-wav"/>
  <Override PartName="/ppt/media/image17.wmf" ContentType="image/x-wmf"/>
  <Override PartName="/ppt/media/image13.wmf" ContentType="image/x-wmf"/>
  <Override PartName="/ppt/media/image11.wmf" ContentType="image/x-wmf"/>
  <Override PartName="/ppt/media/DRIVEBY.WAV" ContentType="audio/x-wav"/>
  <Override PartName="/ppt/media/WHOOSH.WAV" ContentType="audio/x-wav"/>
  <Override PartName="/ppt/media/CARBRAKE.WAV" ContentType="audio/x-wav"/>
  <Override PartName="/ppt/media/image16.wmf" ContentType="image/x-wmf"/>
  <Override PartName="/ppt/media/image14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3E99-FA44-467E-9076-BAE532EC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28F9-2DC3-4371-9C3F-42A2BD65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5BBF-727B-4B28-8684-826F928E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3954-061E-41B0-89AE-BE4F66A2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32FC-A078-4BC2-85E4-D6C64413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9B2F-C00B-4406-B9B6-B9871BFF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9DC7-D13F-4E72-8ECF-B859A080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2A89-C697-4CB1-A98A-921294A2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A948-2AEA-4FC5-B68C-1E5C221D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19DE-3AE1-43C2-850B-ACCA2F5C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5C0F-6501-4B80-BBEF-8742F0F2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79DE-73AA-4192-9B29-720E6D76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2F8D-1956-48DF-90C3-4D4AFDAD6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audio" Target="../media/EXPLODE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cashreg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CHIMES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DRIVEBY.WAV"/><Relationship Id="rId23" Type="http://schemas.openxmlformats.org/officeDocument/2006/relationships/audio" Target="../media/CHIMES.WAV"/><Relationship Id="rId24" Type="http://schemas.openxmlformats.org/officeDocument/2006/relationships/audio" Target="../media/DRIVEBY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DRIVEBY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Baseball%20critical%20stop.wav"/><Relationship Id="rId2" Type="http://schemas.openxmlformats.org/officeDocument/2006/relationships/audio" Target="../media/Baseball%20critical%20stop.wav"/><Relationship Id="rId3" Type="http://schemas.openxmlformats.org/officeDocument/2006/relationships/audio" Target="../media/Baseball%20critical%20stop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ghostlaug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228600"/>
            <a:ext cx="7257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 Black"/>
              </a:rPr>
              <a:t>Chapter 11 Review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14300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e the propor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04920" y="1600200"/>
          <a:ext cx="3890880" cy="14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389088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2133720" y="2971800"/>
          <a:ext cx="1917720" cy="75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971800"/>
                    <a:ext cx="191772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4038480" y="3124080"/>
          <a:ext cx="2378160" cy="60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3124080"/>
                    <a:ext cx="23781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209680" y="3733920"/>
          <a:ext cx="701640" cy="75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3733920"/>
                    <a:ext cx="70164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2819520" y="3962520"/>
          <a:ext cx="853920" cy="55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19520" y="3962520"/>
                    <a:ext cx="85392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733920" y="3886200"/>
          <a:ext cx="1114200" cy="60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3886200"/>
                    <a:ext cx="11142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800600" y="3886200"/>
          <a:ext cx="955800" cy="600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00600" y="3886200"/>
                    <a:ext cx="9558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133720" y="4648320"/>
          <a:ext cx="500040" cy="500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33720" y="4648320"/>
                    <a:ext cx="5000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809880" y="4648320"/>
          <a:ext cx="500040" cy="500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09880" y="4648320"/>
                    <a:ext cx="5000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2666880" y="4495680"/>
          <a:ext cx="803520" cy="601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666880" y="4495680"/>
                    <a:ext cx="80352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4267080" y="4495680"/>
          <a:ext cx="854280" cy="601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267080" y="4495680"/>
                    <a:ext cx="85428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981080" y="541008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= - 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541008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= 4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981080" y="4419720"/>
                <a:ext cx="40579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90720" y="228600"/>
            <a:ext cx="7257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 Black"/>
              </a:rPr>
              <a:t>Chapter 11 Review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83808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e the percent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3716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 What percent of 240 is 36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048120" y="2057400"/>
          <a:ext cx="59040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057400"/>
                    <a:ext cx="59040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755880" y="1981080"/>
          <a:ext cx="1441440" cy="6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55880" y="1981080"/>
                    <a:ext cx="144144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181480" y="1981080"/>
          <a:ext cx="1333800" cy="63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1981080"/>
                    <a:ext cx="133380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3429000" y="259092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5800" y="2590920"/>
            <a:ext cx="99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683160" y="2590920"/>
          <a:ext cx="1058760" cy="60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83160" y="2590920"/>
                    <a:ext cx="10587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638680" y="2590920"/>
          <a:ext cx="1059120" cy="60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38680" y="2590920"/>
                    <a:ext cx="10591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343400" y="3581280"/>
          <a:ext cx="1200240" cy="739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43400" y="3581280"/>
                    <a:ext cx="120024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486400" y="3048120"/>
          <a:ext cx="905040" cy="1655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86400" y="3048120"/>
                    <a:ext cx="90504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248520" y="3556080"/>
          <a:ext cx="1706400" cy="637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48520" y="3556080"/>
                    <a:ext cx="1706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4876920" y="487692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= 15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320" y="838080"/>
            <a:ext cx="906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 an equation of variation whe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aries inversely with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981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4 and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259000" y="2813040"/>
          <a:ext cx="2087640" cy="80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9000" y="2813040"/>
                    <a:ext cx="208764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2438280" y="3505320"/>
          <a:ext cx="1930680" cy="16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505320"/>
                    <a:ext cx="193068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 txBox="1"/>
          <p:nvPr/>
        </p:nvSpPr>
        <p:spPr>
          <a:xfrm>
            <a:off x="990720" y="228600"/>
            <a:ext cx="7257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 Black"/>
              </a:rPr>
              <a:t>Chapter 11 Review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41280" y="1219320"/>
                <a:ext cx="30592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562720" y="1828800"/>
                <a:ext cx="297180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419720" y="2133720"/>
                <a:ext cx="12319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867280" y="1447920"/>
                <a:ext cx="54144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715000" y="2590920"/>
                <a:ext cx="6872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248520" y="2666880"/>
                <a:ext cx="12952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5715000" y="3352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410080" y="2819520"/>
                <a:ext cx="45720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324480" y="2590920"/>
                <a:ext cx="5270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010280" y="3352680"/>
                <a:ext cx="5414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7467480" y="3276720"/>
                <a:ext cx="10605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400800" y="1371600"/>
                <a:ext cx="711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7010280" y="3733920"/>
                <a:ext cx="14479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7010280" y="4419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705720" y="3809880"/>
                <a:ext cx="3682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467480" y="3733920"/>
                <a:ext cx="5270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7543800" y="4419720"/>
                <a:ext cx="9907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162920" y="979560"/>
                <a:ext cx="129528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66680" y="3581280"/>
            <a:ext cx="2887920" cy="1675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746280" y="5097600"/>
                <a:ext cx="3778200" cy="16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 txBox="1"/>
          <p:nvPr/>
        </p:nvSpPr>
        <p:spPr>
          <a:xfrm>
            <a:off x="990720" y="228600"/>
            <a:ext cx="7257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 Black"/>
              </a:rPr>
              <a:t>Chapter 11 Review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968480" y="1219320"/>
                <a:ext cx="436896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432160" y="4419720"/>
                <a:ext cx="484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514600" y="3200400"/>
                <a:ext cx="362592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676520" y="3657600"/>
                <a:ext cx="5950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819520" y="4343400"/>
                <a:ext cx="20048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 flipV="1">
            <a:off x="2590920" y="4038120"/>
            <a:ext cx="17524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895480" y="4495680"/>
            <a:ext cx="18288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800600" y="3352320"/>
            <a:ext cx="1219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124080" y="335232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257800" y="39625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895480" y="2971800"/>
                <a:ext cx="2872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486400" y="4267080"/>
                <a:ext cx="388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 flipV="1">
            <a:off x="3429000" y="335232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514600" y="457164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324480" y="3657600"/>
                <a:ext cx="5954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238880" y="3276720"/>
                <a:ext cx="2872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238880" y="3886200"/>
                <a:ext cx="389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7162920" y="38862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90720" y="228600"/>
            <a:ext cx="7257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 Black"/>
              </a:rPr>
              <a:t>Chapter 11 Review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92120" y="1219320"/>
                <a:ext cx="5111640" cy="114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62120" y="2286000"/>
                <a:ext cx="25146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352680" y="2286000"/>
                <a:ext cx="25146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914400" y="2286000"/>
                <a:ext cx="380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133720" y="2286000"/>
                <a:ext cx="380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505320" y="2286000"/>
                <a:ext cx="380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724280" y="2286000"/>
                <a:ext cx="381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295280" y="2286000"/>
                <a:ext cx="6685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809880" y="2286000"/>
                <a:ext cx="6685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14600" y="2286000"/>
                <a:ext cx="6858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029200" y="2286000"/>
                <a:ext cx="6858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 flipV="1">
            <a:off x="914400" y="2057040"/>
            <a:ext cx="22860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429000" y="2057040"/>
            <a:ext cx="22860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676520" y="3505320"/>
                <a:ext cx="344160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809880" y="1371600"/>
                <a:ext cx="3668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419720" y="1295280"/>
                <a:ext cx="366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200400" y="1600200"/>
                <a:ext cx="3747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066680" y="3505320"/>
                <a:ext cx="12193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09680" y="3505320"/>
                <a:ext cx="1143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276720" y="3581280"/>
                <a:ext cx="3744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505320" y="3505320"/>
                <a:ext cx="1415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800600" y="3505320"/>
                <a:ext cx="1143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762120" y="3048120"/>
                <a:ext cx="5270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219320" y="3048120"/>
                <a:ext cx="92052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057400" y="3048120"/>
                <a:ext cx="92088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895480" y="3079800"/>
                <a:ext cx="8384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657600" y="3048120"/>
                <a:ext cx="83808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267080" y="3087720"/>
                <a:ext cx="9144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105520" y="3048120"/>
                <a:ext cx="9144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867280" y="3048120"/>
                <a:ext cx="9144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 flipV="1">
            <a:off x="1143000" y="3657240"/>
            <a:ext cx="22096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657600" y="3580920"/>
            <a:ext cx="22096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80880" y="3886200"/>
                <a:ext cx="5954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09480" y="5410080"/>
                <a:ext cx="5954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576440" y="5105520"/>
                <a:ext cx="333540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 flipV="1">
            <a:off x="762120" y="312372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809880" y="3200040"/>
            <a:ext cx="6098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438280" y="5029200"/>
                <a:ext cx="7095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124080" y="5029200"/>
                <a:ext cx="11494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 txBox="1"/>
          <p:nvPr/>
        </p:nvSpPr>
        <p:spPr>
          <a:xfrm>
            <a:off x="990720" y="228600"/>
            <a:ext cx="7257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 Black"/>
              </a:rPr>
              <a:t>Chapter 11 Review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27120" y="1523880"/>
                <a:ext cx="7126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990720" y="2590920"/>
                <a:ext cx="175248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666880" y="2590920"/>
                <a:ext cx="17528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295280" y="2590920"/>
                <a:ext cx="13384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895480" y="2590920"/>
                <a:ext cx="13716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V="1">
            <a:off x="1600200" y="2285640"/>
            <a:ext cx="2514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914400" y="1371600"/>
                <a:ext cx="990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267080" y="1371600"/>
                <a:ext cx="990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696080" y="1371600"/>
                <a:ext cx="990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914400" y="1676520"/>
                <a:ext cx="990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267080" y="1676520"/>
                <a:ext cx="990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696080" y="1676520"/>
                <a:ext cx="990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 flipV="1">
            <a:off x="1219320" y="2742840"/>
            <a:ext cx="1218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914400" y="1523880"/>
            <a:ext cx="9144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990720" y="1828440"/>
            <a:ext cx="9144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971800" y="2742840"/>
            <a:ext cx="1219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029200" y="2285640"/>
            <a:ext cx="1219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343400" y="1523880"/>
            <a:ext cx="9144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629400" y="2285640"/>
            <a:ext cx="1219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772400" y="1828440"/>
            <a:ext cx="9144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295280" y="3352680"/>
                <a:ext cx="7095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981080" y="3352680"/>
                <a:ext cx="1148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124080" y="3352680"/>
                <a:ext cx="8049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886200" y="3505320"/>
                <a:ext cx="45720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343400" y="3352680"/>
                <a:ext cx="914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181480" y="3276720"/>
                <a:ext cx="9144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438280" y="3886200"/>
                <a:ext cx="70488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124080" y="3886200"/>
                <a:ext cx="8049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886200" y="4038480"/>
                <a:ext cx="4572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343400" y="3886200"/>
                <a:ext cx="914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181480" y="3809880"/>
                <a:ext cx="9144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057400" y="4419720"/>
                <a:ext cx="10666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14800" y="4419720"/>
                <a:ext cx="10666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124080" y="4419720"/>
                <a:ext cx="80496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257800" y="4419720"/>
                <a:ext cx="80496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2133720" y="502920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124080" y="5029200"/>
                <a:ext cx="72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886200" y="5334120"/>
                <a:ext cx="45720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419720" y="5029200"/>
                <a:ext cx="609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429000" y="4876920"/>
                <a:ext cx="4986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495680" y="4876920"/>
                <a:ext cx="4986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867280" y="5410080"/>
                <a:ext cx="479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324480" y="5486400"/>
                <a:ext cx="4572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781680" y="5257800"/>
                <a:ext cx="914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 txBox="1"/>
          <p:nvPr/>
        </p:nvSpPr>
        <p:spPr>
          <a:xfrm>
            <a:off x="990720" y="228600"/>
            <a:ext cx="7257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 Black"/>
              </a:rPr>
              <a:t>Chapter 11 Review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1981080"/>
            <a:ext cx="91440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hiller"/>
              </a:rPr>
              <a:t>Pg. 700 #1 - 29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90720" y="228600"/>
            <a:ext cx="7257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 Black"/>
              </a:rPr>
              <a:t>Chapter 11 Review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 Black"/>
              <a:ea typeface="Arial Black"/>
            </a:endParaRPr>
          </a:p>
        </p:txBody>
      </p:sp>
    </p:spTree>
  </p:cSld>
  <p:transition>
    <p:zoom dir="out"/>
    <p:sndAc>
      <p:stSnd>
        <p:snd r:embed="rId1" name="APPLAUSE.WAV"/>
      </p:stSnd>
    </p:sndAc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host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0:04:00Z</dcterms:created>
  <dc:creator>Don Helms</dc:creator>
  <dc:description/>
  <dc:language>en-US</dc:language>
  <cp:lastModifiedBy>damon.skelton</cp:lastModifiedBy>
  <dcterms:modified xsi:type="dcterms:W3CDTF">2005-03-15T14:42:48Z</dcterms:modified>
  <cp:revision>18</cp:revision>
  <dc:subject/>
  <dc:title>No Slide Title</dc:title>
</cp:coreProperties>
</file>